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CE5-6D4F-4055-A846-6BF96A0D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811-24FA-42CB-8094-0E1390D5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6D6-B348-4B20-BEE1-22673158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16DF-DF0C-4F43-9BD6-DE5571E5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6A9-C9ED-4F40-9D21-2D38840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343-AC96-43F1-83A8-FBE41BAE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BFE-8B3F-4883-8624-09643B89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ACE-1170-4ADD-BAE5-E1B38B5C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830-F00F-48BB-8593-85B6D3E6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FBF-41A7-4B0C-9E63-92F880B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AAC-B50D-4DBB-AFD0-FECD5D74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62CE-1332-4D79-9601-3C09208F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17AE-15EA-4AC0-A3ED-F961865CE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mate and Weather of the Sun-Earth System :  Use of GP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76197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terial Prepared by Anthea C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PS useful for monit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ospheric response to solar st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intillations on Satellite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 of TEC gradients on Nav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PS Coverage Limited over Oceans, Africa, South America, Asia,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105160" cy="40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254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tstand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Real-Time World-Wide data.  The majority of receivers do not report their data in real or near-rea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number of GPS scintillation monitors on-line and available for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-source GPS processing code for TEC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s that can readily accept new codes and the L5 frequenc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receivers appear to offer the promise of flexi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issues:  determination of receiver biases, absolute calibration of the GPS TEC measurement, removal of bad data (e.g. multipath), correct determination of mapping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8:01:08Z</dcterms:created>
  <dc:creator>ajc</dc:creator>
  <dc:description/>
  <dc:language>en-US</dc:language>
  <cp:lastModifiedBy>sbasu</cp:lastModifiedBy>
  <dcterms:modified xsi:type="dcterms:W3CDTF">2004-07-17T07:19:25Z</dcterms:modified>
  <cp:revision>4</cp:revision>
  <dc:subject/>
  <dc:title>Slide 1</dc:title>
</cp:coreProperties>
</file>