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975-43BC-42B4-94F7-474B61E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B8-E129-4091-BA56-7BCAF92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45F-7928-44DD-A1F9-95F20FAA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93C-EB1B-493A-8D29-E508C39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364-CFD8-4376-9322-554A82F4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1BF-E93B-4951-B319-007E2C4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78D-26AF-4BA4-81DE-89E7842F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AD6-035D-4D22-AC0F-7530FC4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5FF-A6CE-4AD2-9825-86DD136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078-0307-4624-870F-451D075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99E-0204-43A0-8271-2FA3941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F29-B3E1-4B25-8474-2CFCB91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FEB-9740-4935-A7FD-079329327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650960"/>
            <a:ext cx="8763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climatology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37080" y="533520"/>
            <a:ext cx="7736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G4.4 -  Ionosphere and Upper Atmosphere Var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Theme 4 “Space Climatolog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927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the mean state  density, dynamics,  temperature,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secular change in the mea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efine climate anoma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685800"/>
            <a:ext cx="76964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G 4.4 Ionospheric and upper atmosphere var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emphasis should be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elling research towards the key goals of the peer scientific community and their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purpose - understand limitations, assumptions, and comparative value of 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hesion of mesosphere, thermosphere and ionosphere observations and mode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560520"/>
          <a:ext cx="9220320" cy="5692680"/>
        </p:xfrm>
        <a:graphic>
          <a:graphicData uri="http://schemas.openxmlformats.org/drawingml/2006/table">
            <a:tbl>
              <a:tblPr/>
              <a:tblGrid>
                <a:gridCol w="2286000"/>
                <a:gridCol w="5715000"/>
                <a:gridCol w="1219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omas U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ng-term variability in ionospheric and solar dat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LT climatology;       Sun-Earth Connections;       High latitu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exei Danil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LT trends.                          Ionosphere – mid-latitude.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formation on E. European datas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u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Jan Lastovic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ends in MLT – particularly via radio wave techniqu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active link to IAGA/ICMA re MLT tr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ary Bur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ntarctic MLT.                      Whole atmosphere lin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pectroscopy - lower thermosphere temperatu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ustral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Jorge Ch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quatorial perspective,                     Incoherent scatt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onospheric data &amp; 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ck Niciejew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inds and temperatures in upper thermospher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e preservation of long-term FPI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enry Rishbe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specialist consul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ng-term ionospheric trends.          MLT basic physics ‘guru’.           Keen advocate of data preservation and outr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sosp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LT Mode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914840" y="0"/>
            <a:ext cx="67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G 4.4 members  (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-leads: Martin Jarvis, John Emm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7840" y="640080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+ Essential we have scope for co-opting experts as we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831960"/>
            <a:ext cx="92203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onospheric F-layer height and density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mospheric density and temperature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sospheric climatology and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ndard method’ data analysis and plotting tools – so everyone can use the same process on their own local data, for clea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on statistical meta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1560" y="228600"/>
            <a:ext cx="85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ome suggestions re WG 4.4 scientific emphasi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93440" y="304920"/>
            <a:ext cx="47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G 4.4 links within Them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60020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G 4.1 Solar irradi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rectly relevant to variability in ionospheric densities, thermospheric winds etc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G 4.2 Heliosphere, reconnection, geomagnetic field, aurora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irectly relevant to variability in thermospheric temperature, statistical quality of ionospheric data, solar cycles, regional differences, altitude of F-layer etc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G 4.3 Radiation Belts precip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irectly relevant to variability in mesospheric chemistry, F-layer densities, D-region profiles, long-term  human infl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57:02Z</dcterms:created>
  <dc:creator>Martin Jarvis</dc:creator>
  <dc:description/>
  <dc:language>en-US</dc:language>
  <cp:lastModifiedBy>Martin Jarvis</cp:lastModifiedBy>
  <dcterms:modified xsi:type="dcterms:W3CDTF">2004-07-17T06:06:16Z</dcterms:modified>
  <cp:revision>5</cp:revision>
  <dc:subject/>
  <dc:title>PowerPoint Presentation</dc:title>
</cp:coreProperties>
</file>