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1A3-2D99-4280-B217-05406714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26B-1C12-4B82-924C-EECD00C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931-1738-4D03-BE56-EB0C7EE7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25-078A-408F-90FF-F11F2B98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0FB-1C0D-4265-BE6E-3D20D48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8EA-D482-479E-A8E3-BD6C67D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26C-F0F2-4288-AC68-1AB62EAC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B84-3CD6-41B0-ABC0-9F99D3A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F91-6839-42ED-8A67-10E80223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38E-135E-4A88-9A19-D333581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678-53B9-4047-8EFB-A016729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DDE-D319-473E-B688-127919D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B49-6958-4775-9B72-A3B60029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Lucida Sans Unicode"/>
              </a:rPr>
              <a:t>Capacity Building &amp; Education</a:t>
            </a:r>
            <a:br>
              <a:rPr sz="4000"/>
            </a:br>
            <a:r>
              <a:rPr b="1" lang="en-US" sz="2400" spc="-1" strike="noStrike">
                <a:solidFill>
                  <a:srgbClr val="990033"/>
                </a:solidFill>
                <a:latin typeface="Lucida Sans Unicode"/>
              </a:rPr>
              <a:t>Co-Chairs: Marv Geller,</a:t>
            </a:r>
            <a:r>
              <a:rPr b="1" lang="en-US" sz="3200" spc="-1" strike="noStrike">
                <a:solidFill>
                  <a:srgbClr val="990033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Lucida Sans Unicode"/>
              </a:rPr>
              <a:t>S. T. Wu</a:t>
            </a:r>
            <a:r>
              <a:rPr b="1" lang="en-US" sz="3200" spc="-1" strike="noStrike">
                <a:solidFill>
                  <a:srgbClr val="990033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Lucida Sans Unicode"/>
              </a:rPr>
              <a:t>and Joe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CAWSES will hold meetings and provide specialized training courses for scientists from developing nations and help with computational and data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Establish partnerships between developing &amp;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ICSU Grant Application m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for such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378240" cy="225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7680" y="4419720"/>
            <a:ext cx="527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was Not Funded by IC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tained the following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6 DC scientists to participate in IUG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GA, IAMAS, IAU, URSI, COSPAR, and SC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other ICSU member meetings, as appropr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partnerships between DC scientist and a more senior CAWSES scient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, they submit a proposal that falls under a CAWSES area to the Bureau for research over a 3-year period, resource needs (e. g., computer, data, internet, travel), and schedule for meetings between the t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scientist would be made a member of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CAWSES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set of twenty questions for the solar-terrestrial system with easy to follow answers for somebody educated at the high school level (modeled on WMO/UNEP Ozone repor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eminate these to SCOSTEP National Adherents, who would try to get translation into their native language and disseminate copies within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STEP wishes to support, on the averag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young DC scientists will be select to attend conferences each year (@~$2500/scientist).  Implies selection process costs $15,000/year, or for CAWSES 5 years $75K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wo years, proposals are accepted and 3 are selected out of a two-year pool of 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/selected DC scientist estimated to be $3,000 for computer and $2,000/year for travel for each of year of his/her 3-year tenure - accounting for a little inflation say $10,000.  6 selected scientists imply a total cost of $60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s for education are estimated to be about $5K for graphics and prin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s are then $140K, which was proposed to be split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5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SU un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0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SU 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ng $1,000 per supported CAWSES DC scientist attending their General or Scientific Assemblies for 5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that our ICSU proposal h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en funded, should we rethink this program or can this program be supported by a combination of SCOSTEP, the ICSU bodies, and the SCOSTEP member countr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9:34:38Z</dcterms:created>
  <dc:creator>Marvin Geller</dc:creator>
  <dc:description/>
  <dc:language>en-US</dc:language>
  <cp:lastModifiedBy>Pallamraju Duggirala</cp:lastModifiedBy>
  <dcterms:modified xsi:type="dcterms:W3CDTF">2004-07-21T21:03:35Z</dcterms:modified>
  <cp:revision>9</cp:revision>
  <dc:subject/>
  <dc:title>PowerPoint Presentation</dc:title>
</cp:coreProperties>
</file>