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100-8BC8-4CB7-B7EA-BFF4AEC6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EA6-06A9-4E0A-8B74-C302C9BD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6BE-61E2-4F07-95E2-98CDBE19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016-387B-43F4-AA57-FDAF25B8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FAD-F3EF-45F6-8D65-023BC3B7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968-EE18-4F5B-B4A8-CB3F6A3E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5EA-CAD0-407E-A3EB-B643C6F9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D91-CFD7-4A4B-BDF4-968E1D9B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08C-E0DC-4635-8AC8-1869306A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3A5-CF37-4BEA-8A7A-4753835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95E-72AD-462C-8AF3-05C471B4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B98-A299-4927-B656-5FF7C5C5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C68E-0820-474C-AE19-998E0B30D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me 4:  SPACE CLIMA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75438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-Chaired by Claus Fröhlich and Jan Soj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15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e understand our theme as to provide the data necessary to study the “Climatology of the Sun-Earth System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15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is allows to distinguish our tasks from those of the other themes which will eventually use our data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15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s we are dealing with Climatology we are concentrating on long-term effects, certainly longer than several weeks (e.g. longer than the solar rotation peri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15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ur emphasis is on both a critical review of the original observations and their interpre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64450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WSES Meeting on 17 July 2004 in Pari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0"/>
            <a:ext cx="8153280" cy="82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6080" indent="-1486080" algn="ctr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me 4:  WORKING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 algn="ctr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WG 4.1:  Solar Irradiance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40"/>
                </a:solidFill>
                <a:latin typeface="Times New Roman"/>
              </a:rPr>
              <a:t>Co-chaired by Judit Pap and Gerard Thuil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WG 4.2:  Heliosphere Near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4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40"/>
                </a:solidFill>
                <a:latin typeface="Times New Roman"/>
              </a:rPr>
              <a:t>Chaired by Leif Svalg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WG 4.3:  Radiation Belt Clima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4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40"/>
                </a:solidFill>
                <a:latin typeface="Times New Roman"/>
              </a:rPr>
              <a:t>Chaired by Takahiro O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WG 4.4:  Ionospheric and Upper-Atmospheric Var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4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40"/>
                </a:solidFill>
                <a:latin typeface="Times New Roman"/>
              </a:rPr>
              <a:t>Co-chaired by Martin Jarvis and John Emm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 algn="ctr">
              <a:spcBef>
                <a:spcPts val="1001"/>
              </a:spcBef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WSES Meeting on 17 July 2004 in Pari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0"/>
            <a:ext cx="815328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 algn="ctr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me 4: 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 algn="ctr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Each working group has been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Membership in the working groups is being actively pur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Workshops have already occurred, and other are being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Special Theme 4 Working Group Sessions at national and international meetings are being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Each working group will provided a detailed status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 algn="ctr">
              <a:spcBef>
                <a:spcPts val="1001"/>
              </a:spcBef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WSES Meeting on 17 July 2004 in Pari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0"/>
            <a:ext cx="8153280" cy="80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 algn="ctr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me 4: 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 algn="ctr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40"/>
                </a:solidFill>
                <a:latin typeface="Times New Roman"/>
              </a:rPr>
              <a:t>In order to achieve the integrated space climatology objectives the theme needs effective interaction between the working group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40"/>
                </a:solidFill>
                <a:latin typeface="Times New Roman"/>
              </a:rPr>
              <a:t>This is achieved by a committee consisting of the theme co-chairs and the working group chairs with responsibility to identify areas of overlaps and mutually relevant topics and to ensure these are pursu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40"/>
                </a:solidFill>
                <a:latin typeface="Times New Roman"/>
              </a:rPr>
              <a:t>A measure of the success of this cooperation is a CAWSES Theme 4 data base that encompasses all four working group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40"/>
                </a:solidFill>
                <a:latin typeface="Times New Roman"/>
              </a:rPr>
              <a:t>A CAWSES product will be a “CD” of this data base intended for non-specialists as well as being useful to non-disciple specialists.  </a:t>
            </a:r>
            <a:r>
              <a:rPr b="1" i="1" lang="en-US" sz="2200" spc="-1" strike="noStrike">
                <a:solidFill>
                  <a:srgbClr val="008040"/>
                </a:solidFill>
                <a:latin typeface="Times New Roman"/>
              </a:rPr>
              <a:t>(This aspect will serve as outreach, even public outrea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 algn="ctr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WSES Meeting on 17 July 2004 in Pari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60440"/>
            <a:ext cx="8153280" cy="77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 algn="ctr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me 4: 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 algn="ctr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Considerable overlap also exists between the CAWSES the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This overlap is an excellent opportunity for cross discipline scientific inte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Taking advantage of these overlaps needs to be form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Is there a need for CAWSES inter-theme working group or committ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buClr>
                <a:srgbClr val="008040"/>
              </a:buClr>
              <a:buFont typeface="Wingdings" charset="2"/>
              <a:buChar char=""/>
              <a:tabLst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 algn="ctr">
              <a:spcBef>
                <a:spcPts val="1001"/>
              </a:spcBef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WSES Meeting on 17 July 2004 in Pari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58104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320" y="351000"/>
            <a:ext cx="8919360" cy="61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me 4:  WG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WG 4.1:  Solar Irradiance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40"/>
                </a:solidFill>
                <a:latin typeface="Times New Roman"/>
              </a:rPr>
              <a:t>Presented by </a:t>
            </a: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Judit Pap</a:t>
            </a:r>
            <a:r>
              <a:rPr b="0" lang="en-US" sz="2400" spc="-1" strike="noStrike">
                <a:solidFill>
                  <a:srgbClr val="008040"/>
                </a:solidFill>
                <a:latin typeface="Times New Roman"/>
              </a:rPr>
              <a:t> and Gerard Thuil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WG 4.2:  Heliosphere Near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4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4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40"/>
                </a:solidFill>
                <a:latin typeface="Times New Roman"/>
              </a:rPr>
              <a:t>Presented by </a:t>
            </a: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Leif Svalg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WG 4.3:  Radiation Belt Clima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4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40"/>
                </a:solidFill>
                <a:latin typeface="Times New Roman"/>
              </a:rPr>
              <a:t>Presented by </a:t>
            </a: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Takahiro O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40"/>
                </a:solidFill>
                <a:latin typeface="Times New Roman"/>
              </a:rPr>
              <a:t>WG 4.4:  Ionospheric and Upper-Atmospheric Var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4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40"/>
                </a:solidFill>
                <a:latin typeface="Times New Roman"/>
              </a:rPr>
              <a:t>Presented  by </a:t>
            </a: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Martin Jarvis</a:t>
            </a:r>
            <a:r>
              <a:rPr b="0" lang="en-US" sz="2400" spc="-1" strike="noStrike">
                <a:solidFill>
                  <a:srgbClr val="008040"/>
                </a:solidFill>
                <a:latin typeface="Times New Roman"/>
              </a:rPr>
              <a:t> and John Emm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WSES Meeting on 17 July 2004 in Pari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5:17:50Z</dcterms:created>
  <dc:creator>Melanie Oldroyd</dc:creator>
  <dc:description/>
  <dc:language>en-US</dc:language>
  <cp:lastModifiedBy>Melanie Oldroyd</cp:lastModifiedBy>
  <cp:lastPrinted>2004-07-09T17:48:42Z</cp:lastPrinted>
  <dcterms:modified xsi:type="dcterms:W3CDTF">2004-07-09T17:49:17Z</dcterms:modified>
  <cp:revision>12</cp:revision>
  <dc:subject/>
  <dc:title>Theme 4:  SPACE CLIMATOLOGY</dc:title>
</cp:coreProperties>
</file>